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gif" ContentType="image/gif"/>
  <Override PartName="/ppt/media/image12.gif" ContentType="image/gif"/>
  <Override PartName="/ppt/media/image1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cashreg.wav" ContentType="audio/x-wav"/>
  <Override PartName="/ppt/media/image8.gif" ContentType="image/gif"/>
  <Override PartName="/ppt/media/camera.wav" ContentType="audio/x-wav"/>
  <Override PartName="/ppt/media/image5.gif" ContentType="image/gif"/>
  <Override PartName="/ppt/media/image4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40A-ECB0-4C1F-96AD-84A3E83E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977-AFEA-41C3-88DF-50F0B0B7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956-3F63-4123-9632-B3333579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284-C226-408D-B1AB-49876413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D6661-9B43-4A37-A640-AF25A5F7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40E20-B61A-42C1-916E-635914AA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2F07D-DBFF-42C6-AC0B-43C850F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BFD61-3E46-4410-B2EB-E4959530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4B419-1C99-4FBA-B1FB-E8FCAD6A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3B347-99D7-4441-AB06-CF8A07BB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B8132-EF87-43E8-B957-4DE942FC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5B2-48FD-4045-A540-38F12417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44B91-3D16-4076-812D-012F385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4BA09-63B5-47D2-B1AF-57E231C2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FAFCE-C8F1-4937-A385-22941801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84B86-6ADC-4061-B3E5-B902AA91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06085-4E2A-46DD-B9A0-40944362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146-0105-490F-80FE-8ED1DC76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ACE-197D-431E-94EE-3C057510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B9B-3A22-4661-8501-23A3F63C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983-CBC1-4A41-8A42-43C2351B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3C5-B664-46D8-9B6E-5ED8131F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CF3-4571-4DCE-903E-1F74F87A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011-ECEC-4AF6-A132-05116DA0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6A79-FC62-48D9-AF1E-15AB1E2BF6E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DAA5-AD27-4259-BF58-93E71525E6E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&#25945;&#23398;/&#29677;&#20027;&#20219;&#24037;&#20316;/&#20027;&#39064;&#29677;&#20250;/&#29677;&#20027;&#20219;&#35838;&#20214;&#20840;&#38598;&#65288;&#20849;160&#20010;&#65289;/&#29677;&#20027;&#20219;&#35838;&#20214;&#20840;&#38598;/2005&#24180;&#24405;&#21462;&#20998;&#25968;&#32447;2.xls" TargetMode="External"/><Relationship Id="rId3" Type="http://schemas.openxmlformats.org/officeDocument/2006/relationships/hyperlink" Target="file:///../../../&#25945;&#23398;/&#29677;&#20027;&#20219;&#24037;&#20316;/&#20027;&#39064;&#29677;&#20250;/&#29677;&#20027;&#20219;&#35838;&#20214;&#20840;&#38598;&#65288;&#20849;160&#20010;&#65289;/&#29677;&#20027;&#20219;&#35838;&#20214;&#20840;&#38598;/2005&#24180;&#24405;&#21462;&#20998;&#25968;&#32447;2.xls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8.gif"/><Relationship Id="rId25" Type="http://schemas.openxmlformats.org/officeDocument/2006/relationships/image" Target="../media/image8.gif"/><Relationship Id="rId26" Type="http://schemas.openxmlformats.org/officeDocument/2006/relationships/image" Target="../media/image8.gif"/><Relationship Id="rId27" Type="http://schemas.openxmlformats.org/officeDocument/2006/relationships/image" Target="../media/image8.gif"/><Relationship Id="rId28" Type="http://schemas.openxmlformats.org/officeDocument/2006/relationships/image" Target="../media/image8.gif"/><Relationship Id="rId29" Type="http://schemas.openxmlformats.org/officeDocument/2006/relationships/image" Target="../media/image8.gif"/><Relationship Id="rId30" Type="http://schemas.openxmlformats.org/officeDocument/2006/relationships/image" Target="../media/image8.gif"/><Relationship Id="rId31" Type="http://schemas.openxmlformats.org/officeDocument/2006/relationships/image" Target="../media/image8.gif"/><Relationship Id="rId32" Type="http://schemas.openxmlformats.org/officeDocument/2006/relationships/image" Target="../media/image8.gif"/><Relationship Id="rId33" Type="http://schemas.openxmlformats.org/officeDocument/2006/relationships/image" Target="../media/image8.gif"/><Relationship Id="rId34" Type="http://schemas.openxmlformats.org/officeDocument/2006/relationships/image" Target="../media/image8.gif"/><Relationship Id="rId35" Type="http://schemas.openxmlformats.org/officeDocument/2006/relationships/image" Target="../media/image8.gif"/><Relationship Id="rId36" Type="http://schemas.openxmlformats.org/officeDocument/2006/relationships/image" Target="../media/image8.gif"/><Relationship Id="rId37" Type="http://schemas.openxmlformats.org/officeDocument/2006/relationships/image" Target="../media/image8.gif"/><Relationship Id="rId38" Type="http://schemas.openxmlformats.org/officeDocument/2006/relationships/image" Target="../media/image8.gif"/><Relationship Id="rId39" Type="http://schemas.openxmlformats.org/officeDocument/2006/relationships/image" Target="../media/image8.gif"/><Relationship Id="rId40" Type="http://schemas.openxmlformats.org/officeDocument/2006/relationships/image" Target="../media/image8.gif"/><Relationship Id="rId41" Type="http://schemas.openxmlformats.org/officeDocument/2006/relationships/image" Target="../media/image8.gif"/><Relationship Id="rId42" Type="http://schemas.openxmlformats.org/officeDocument/2006/relationships/image" Target="../media/image8.gif"/><Relationship Id="rId43" Type="http://schemas.openxmlformats.org/officeDocument/2006/relationships/image" Target="../media/image8.gif"/><Relationship Id="rId44" Type="http://schemas.openxmlformats.org/officeDocument/2006/relationships/image" Target="../media/image8.gif"/><Relationship Id="rId45" Type="http://schemas.openxmlformats.org/officeDocument/2006/relationships/image" Target="../media/image8.gif"/><Relationship Id="rId46" Type="http://schemas.openxmlformats.org/officeDocument/2006/relationships/image" Target="../media/image8.gif"/><Relationship Id="rId47" Type="http://schemas.openxmlformats.org/officeDocument/2006/relationships/image" Target="../media/image8.gif"/><Relationship Id="rId48" Type="http://schemas.openxmlformats.org/officeDocument/2006/relationships/image" Target="../media/image8.gif"/><Relationship Id="rId49" Type="http://schemas.openxmlformats.org/officeDocument/2006/relationships/image" Target="../media/image8.gif"/><Relationship Id="rId50" Type="http://schemas.openxmlformats.org/officeDocument/2006/relationships/image" Target="../media/image8.gif"/><Relationship Id="rId51" Type="http://schemas.openxmlformats.org/officeDocument/2006/relationships/image" Target="../media/image8.gif"/><Relationship Id="rId52" Type="http://schemas.openxmlformats.org/officeDocument/2006/relationships/image" Target="../media/image8.gif"/><Relationship Id="rId53" Type="http://schemas.openxmlformats.org/officeDocument/2006/relationships/image" Target="../media/image8.gif"/><Relationship Id="rId54" Type="http://schemas.openxmlformats.org/officeDocument/2006/relationships/image" Target="../media/image8.gif"/><Relationship Id="rId55" Type="http://schemas.openxmlformats.org/officeDocument/2006/relationships/image" Target="../media/image9.gif"/><Relationship Id="rId5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lum contrast="2000"/>
          </a:blip>
          <a:stretch/>
        </p:blipFill>
        <p:spPr>
          <a:xfrm>
            <a:off x="-757080" y="0"/>
            <a:ext cx="9901080" cy="692136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83" name=""/>
          <p:cNvSpPr txBox="1"/>
          <p:nvPr/>
        </p:nvSpPr>
        <p:spPr>
          <a:xfrm rot="20038200">
            <a:off x="-456840" y="990360"/>
            <a:ext cx="443880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明天的太阳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4" name=""/>
          <p:cNvSpPr txBox="1"/>
          <p:nvPr/>
        </p:nvSpPr>
        <p:spPr>
          <a:xfrm rot="18688800">
            <a:off x="-106200" y="834480"/>
            <a:ext cx="187164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姚体"/>
              </a:rPr>
              <a:t>托 起</a:t>
            </a:r>
            <a:endParaRPr b="1" i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85" name=""/>
          <p:cNvSpPr txBox="1"/>
          <p:nvPr/>
        </p:nvSpPr>
        <p:spPr>
          <a:xfrm rot="2716200">
            <a:off x="7321680" y="894960"/>
            <a:ext cx="164484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姚体"/>
              </a:rPr>
              <a:t>放飞</a:t>
            </a:r>
            <a:endParaRPr b="1" lang="en-US" sz="4000" spc="1" strike="noStrike">
              <a:ln w="1260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86" name=""/>
          <p:cNvSpPr txBox="1"/>
          <p:nvPr/>
        </p:nvSpPr>
        <p:spPr>
          <a:xfrm rot="2400600">
            <a:off x="4642920" y="836640"/>
            <a:ext cx="4932360" cy="22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青春的理想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532720" y="646272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523880" y="3962520"/>
            <a:ext cx="60199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欢迎家长们的光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近阶段学生的不足主要表现在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Times New Roman"/>
                <a:ea typeface="黑体"/>
              </a:rPr>
              <a:t>㈠重理轻文，语文与政治投入时间较少，不能正确处理弱项与强项的关系；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黑体"/>
              </a:rPr>
              <a:t>㈡学习浮躁不踏实，方法不科学；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黑体"/>
              </a:rPr>
              <a:t>㈢作业不独立完成，因拖拉而导致白天身心疲惫；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黑体"/>
              </a:rPr>
              <a:t>㈣自觉性不够，作业之外的自主的钻研意识不强；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黑体"/>
              </a:rPr>
              <a:t>㈤时间利用效率低，周末时间的利用不及在校期间；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Times New Roman"/>
                <a:ea typeface="黑体"/>
              </a:rPr>
              <a:t>㈥知识与能力把握不足，学习自信心容易波动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三．心理压力过大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Tahoma"/>
              </a:rPr>
              <a:t>到了这个学期，新课基本讲完，各科转入复习阶段，作业量大大增加，而且老师开始把升中的试题放下来给他们做，题目有一定的难度，他们的心理开始紧张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考试一个个开始迫近，总有不少的顾虑．导致吃不好，睡眠不足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7c80"/>
                </a:solidFill>
                <a:latin typeface="Tahoma"/>
              </a:rPr>
              <a:t>升中情况介绍</a:t>
            </a:r>
            <a:r>
              <a:rPr b="0" lang="zh-CN" sz="4400" spc="-1" strike="noStrike">
                <a:solidFill>
                  <a:srgbClr val="ff7c8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现在已经全体学生报名参加今年的升中考试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正在审批中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2.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介绍去年佛山大市升中考试的录取分数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.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我班学习成绩现阶段的水平情况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7c80"/>
                </a:solidFill>
                <a:latin typeface="Tahoma"/>
              </a:rPr>
              <a:t>现在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班的情况可以分四类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在上学期末考试成绩在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590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分以上的同学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只要能保持上学期末的学习状态考上区的重点中学是问题不大的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上学期末考试成绩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55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分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59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分的同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其实他们的机会是非常大的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只要他们在学习上再加把劲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把学习的时间在抓紧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多问老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多与老师沟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改进一下学习方法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是绝对每问题的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3.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在上学期末考试成绩在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500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分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--550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分的同学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其实他们并不是没有机会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只是他们要比别人更加努力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我们班有一个别班没有的特点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就是我们班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550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分的同学其实很聪明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但比别人懒惰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怕辛苦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坚持力不强</a:t>
            </a:r>
            <a:r>
              <a:rPr b="0" lang="zh-CN" sz="2800" spc="-1" strike="noStrike">
                <a:solidFill>
                  <a:srgbClr val="00c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4.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在上学期末考试成绩在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500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分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--550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分的同学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其实他们并不是没有机会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他们也是很聪明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只是他们要比别人懒惰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怕辛苦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坚持力不强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相信他们克服了这些缺点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重点中学还是向他们不断招手的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在上学期末考试成绩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410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500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的同学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不是就不能考重点中学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我们有一个建议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考罗村高中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否可以考虑考其他区的重点中学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从去年的成绩来看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如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佛山市三水区实验中学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普通生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) 566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佛山市高明区第一中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普通生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) 559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佛山市第二中学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石湾校区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)(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普通生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)547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佛山市高明区第二中学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普通生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) 483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等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但在考虑这些学校之前一定要跟孩子讲清楚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考上了要离开家很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要有心理准备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808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学习成绩优异的六个条件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㈠要有好的老师，重视的家长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㈡学习要有目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㈢要有一个限时学习计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㈣要有适合自己的学习方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㈤要找到内在的学习动力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㈥父母对孩子合理的关心程度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宋体"/>
                <a:ea typeface="黑体"/>
              </a:rPr>
              <a:t>㈠严格管理，依法治班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宋体"/>
                <a:ea typeface="黑体"/>
              </a:rPr>
              <a:t>㈡既要全面抓，又要重点抓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宋体"/>
                <a:ea typeface="黑体"/>
              </a:rPr>
              <a:t>㈢加强思想教育，增强学生信念与成材意识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宋体"/>
                <a:ea typeface="黑体"/>
              </a:rPr>
              <a:t>㈣从实际出发，科学评价每位学生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宋体"/>
                <a:ea typeface="黑体"/>
              </a:rPr>
              <a:t>㈤以一模考试为核心，促成每个人都有进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一模前的班级努力方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4800600"/>
            <a:ext cx="8915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对每个家庭负责，积极推动每位学生进步！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据我们了解的情况，发现家长在教育中有以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几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误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琥珀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4160" y="1197000"/>
            <a:ext cx="25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过分保护，给学生造成心理压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影响学生们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常学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2205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ff99"/>
                </a:solidFill>
                <a:latin typeface="Arial"/>
              </a:rPr>
              <a:t>、过分干涉，许多家长认为学生到了毕业年级，什么都不能干，只有学习，这样往往会适得其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23240" y="3716280"/>
            <a:ext cx="68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、期望值过高，超过了孩子实际水平，这样容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挫伤孩子的自信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4797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、对孩子的身体倍加呵护，却忽视了孩子的心理健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5791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、不注重言传身教，不要孩子做的事情，自己却做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5334120" y="304920"/>
            <a:ext cx="3581280" cy="2280240"/>
            <a:chOff x="5334120" y="304920"/>
            <a:chExt cx="3581280" cy="2280240"/>
          </a:xfrm>
        </p:grpSpPr>
        <p:sp>
          <p:nvSpPr>
            <p:cNvPr id="128" name=""/>
            <p:cNvSpPr/>
            <p:nvPr/>
          </p:nvSpPr>
          <p:spPr>
            <a:xfrm>
              <a:off x="8318520" y="784800"/>
              <a:ext cx="522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ff"/>
                  </a:solidFill>
                  <a:latin typeface="Times New Roman"/>
                  <a:ea typeface="华文彩云"/>
                </a:rPr>
                <a:t>矿兴中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4120" y="304920"/>
              <a:ext cx="358128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306880" y="22860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对家长们的几点希望与要求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33577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4479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要教育孩子怎样做人，关心孩子的思想动态使孩子有正确的思想导向、明确的奋斗目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Tahoma"/>
              </a:rPr>
              <a:t>让我们一起为孩子们创造条件</a:t>
            </a:r>
            <a:r>
              <a:rPr b="0" lang="zh-CN" sz="4400" spc="-1" strike="noStrike">
                <a:solidFill>
                  <a:srgbClr val="ff9933"/>
                </a:solidFill>
                <a:latin typeface="Tahoma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为孩子做力所能及的事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在百忙之中为孩子送送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其实这一点我们很多家长已经做到了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如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黎淑仪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陈囿冰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杨楚怡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陈俊斌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杨展帆等同学的家长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在星期六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天放假时多为孩子们多做他们喜欢吃的菜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如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叶翠萍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孙林霞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黄绮媚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岑锦潮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誉康华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黄静华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等家长也是做得不错的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多与老师沟通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及时了解孩子在学校的动态和家庭的反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如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黄玉霞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叶燕嫦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蔡君怡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龙光星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杨杰佳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潘伟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等家长也是经常与我们多位老师沟通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也许我们都比较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您多次来电话都每能接到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请多多谅解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今年升中考的最新消息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.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考英语口语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(1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分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五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—五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考体育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(2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分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六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上午考语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下午考政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六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上午考数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下午考物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六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上午考英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下午考化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45687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7c80"/>
                </a:solidFill>
                <a:latin typeface="Tahoma"/>
              </a:rPr>
              <a:t>今年</a:t>
            </a:r>
            <a:r>
              <a:rPr b="0" lang="zh-CN" sz="3600" spc="-1" strike="noStrike">
                <a:solidFill>
                  <a:srgbClr val="ff7c80"/>
                </a:solidFill>
                <a:latin typeface="Tahoma"/>
              </a:rPr>
              <a:t>今年升中考的时间比往年提前了一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49360"/>
            <a:ext cx="9144000" cy="3951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请多多听听我们孩子的心里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这些时间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他们的心里都是很不好受的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他们觉得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苦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怕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慌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紧张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但是有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怕对不起你们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5.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请多站在他们的立场想想他们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没错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每一位家长都是想望子成材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望女成凤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但是对他们的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要求一定要符合他们的实际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过高的期望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就会对他们造成一种</a:t>
            </a:r>
            <a:r>
              <a:rPr b="0" lang="zh-CN" sz="2800" spc="-1" strike="noStrike">
                <a:solidFill>
                  <a:srgbClr val="ff7c80"/>
                </a:solidFill>
                <a:latin typeface="Tahoma"/>
              </a:rPr>
              <a:t>无形的压力和负担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也许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你会觉得自己没有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但是你认真地回想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你是否经常把他们与某个人相比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甚至经常说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某某考上了佛山一中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石门中学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你一定要争气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这样的负担比学习上的负担更重</a:t>
            </a:r>
            <a:r>
              <a:rPr b="0" lang="zh-CN" sz="2800" spc="-1" strike="noStrike">
                <a:solidFill>
                  <a:srgbClr val="33993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6.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特别要注意孩子的思想动态和一些特别的举动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往往在这段时间由于种种的压力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他们不说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但会从行动中有所表现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我们一定要多一个心眼留意他们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及时开导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排忧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80" y="69228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7.</a:t>
            </a: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对与早恋</a:t>
            </a: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能压制的要压制</a:t>
            </a: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不能压制的要正确引导</a:t>
            </a: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49568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我们相信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: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在您们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孩子们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老师们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学校的共同努力下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今年的六月中旬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我们一定能听到好消息的</a:t>
            </a:r>
            <a:r>
              <a:rPr b="0" lang="zh-CN" sz="4000" spc="-1" strike="noStrike">
                <a:solidFill>
                  <a:srgbClr val="ff7c8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1337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要尽量控制孩子的零用钱和上学、回家的时间，教育孩子少与社会上的或其他学校的人交朋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2920" y="380880"/>
            <a:ext cx="127944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413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十问：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在外留宿。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回家很迟。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带同学住宿。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打电话时间长，次数多。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受伤回家。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超消费要问。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超出友谊。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成绩突然下降。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穿奇装异服，爱好打扮，沉默寡言。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老是玩电脑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2602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需要注意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4437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华文行楷"/>
              </a:rPr>
              <a:t>为了孩子，欢迎您随时和我沟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99172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8991720" y="753264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0" y="0"/>
            <a:ext cx="9143640" cy="404640"/>
            <a:chOff x="0" y="0"/>
            <a:chExt cx="9143640" cy="404640"/>
          </a:xfrm>
        </p:grpSpPr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728028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801108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8"/>
            <a:stretch/>
          </p:blipFill>
          <p:spPr>
            <a:xfrm>
              <a:off x="33120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9"/>
            <a:stretch/>
          </p:blipFill>
          <p:spPr>
            <a:xfrm>
              <a:off x="69732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0"/>
            <a:stretch/>
          </p:blipFill>
          <p:spPr>
            <a:xfrm>
              <a:off x="106344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1"/>
            <a:stretch/>
          </p:blipFill>
          <p:spPr>
            <a:xfrm>
              <a:off x="142848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2"/>
            <a:stretch/>
          </p:blipFill>
          <p:spPr>
            <a:xfrm>
              <a:off x="179316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3"/>
            <a:stretch/>
          </p:blipFill>
          <p:spPr>
            <a:xfrm>
              <a:off x="215928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4"/>
            <a:stretch/>
          </p:blipFill>
          <p:spPr>
            <a:xfrm>
              <a:off x="252576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5"/>
            <a:stretch/>
          </p:blipFill>
          <p:spPr>
            <a:xfrm>
              <a:off x="289224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6"/>
            <a:stretch/>
          </p:blipFill>
          <p:spPr>
            <a:xfrm>
              <a:off x="3258720" y="0"/>
              <a:ext cx="4010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7"/>
            <a:stretch/>
          </p:blipFill>
          <p:spPr>
            <a:xfrm>
              <a:off x="3621600" y="0"/>
              <a:ext cx="4010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8"/>
            <a:stretch/>
          </p:blipFill>
          <p:spPr>
            <a:xfrm>
              <a:off x="398772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9"/>
            <a:stretch/>
          </p:blipFill>
          <p:spPr>
            <a:xfrm>
              <a:off x="435420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0"/>
            <a:stretch/>
          </p:blipFill>
          <p:spPr>
            <a:xfrm>
              <a:off x="472068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1"/>
            <a:stretch/>
          </p:blipFill>
          <p:spPr>
            <a:xfrm>
              <a:off x="508680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2"/>
            <a:stretch/>
          </p:blipFill>
          <p:spPr>
            <a:xfrm>
              <a:off x="545148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3"/>
            <a:stretch/>
          </p:blipFill>
          <p:spPr>
            <a:xfrm>
              <a:off x="581652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4"/>
            <a:stretch/>
          </p:blipFill>
          <p:spPr>
            <a:xfrm>
              <a:off x="654876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5"/>
            <a:stretch/>
          </p:blipFill>
          <p:spPr>
            <a:xfrm>
              <a:off x="6183000" y="0"/>
              <a:ext cx="4010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6"/>
            <a:stretch/>
          </p:blipFill>
          <p:spPr>
            <a:xfrm>
              <a:off x="691524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7"/>
            <a:stretch/>
          </p:blipFill>
          <p:spPr>
            <a:xfrm>
              <a:off x="7646760" y="0"/>
              <a:ext cx="4010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28"/>
            <a:stretch/>
          </p:blipFill>
          <p:spPr>
            <a:xfrm>
              <a:off x="874224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9"/>
            <a:stretch/>
          </p:blipFill>
          <p:spPr>
            <a:xfrm>
              <a:off x="8377560" y="0"/>
              <a:ext cx="401400" cy="40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0" y="6453360"/>
            <a:ext cx="9143640" cy="404640"/>
            <a:chOff x="0" y="6453360"/>
            <a:chExt cx="9143640" cy="404640"/>
          </a:xfrm>
        </p:grpSpPr>
        <p:pic>
          <p:nvPicPr>
            <p:cNvPr id="173" name="" descr=""/>
            <p:cNvPicPr/>
            <p:nvPr/>
          </p:nvPicPr>
          <p:blipFill>
            <a:blip r:embed="rId30"/>
            <a:stretch/>
          </p:blipFill>
          <p:spPr>
            <a:xfrm>
              <a:off x="728028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1"/>
            <a:stretch/>
          </p:blipFill>
          <p:spPr>
            <a:xfrm>
              <a:off x="801108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2"/>
            <a:stretch/>
          </p:blipFill>
          <p:spPr>
            <a:xfrm>
              <a:off x="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3"/>
            <a:stretch/>
          </p:blipFill>
          <p:spPr>
            <a:xfrm>
              <a:off x="33120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34"/>
            <a:stretch/>
          </p:blipFill>
          <p:spPr>
            <a:xfrm>
              <a:off x="69732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35"/>
            <a:stretch/>
          </p:blipFill>
          <p:spPr>
            <a:xfrm>
              <a:off x="106344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36"/>
            <a:stretch/>
          </p:blipFill>
          <p:spPr>
            <a:xfrm>
              <a:off x="142848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7"/>
            <a:stretch/>
          </p:blipFill>
          <p:spPr>
            <a:xfrm>
              <a:off x="179316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38"/>
            <a:stretch/>
          </p:blipFill>
          <p:spPr>
            <a:xfrm>
              <a:off x="215928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39"/>
            <a:stretch/>
          </p:blipFill>
          <p:spPr>
            <a:xfrm>
              <a:off x="252576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0"/>
            <a:stretch/>
          </p:blipFill>
          <p:spPr>
            <a:xfrm>
              <a:off x="289224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1"/>
            <a:stretch/>
          </p:blipFill>
          <p:spPr>
            <a:xfrm>
              <a:off x="3258720" y="6453360"/>
              <a:ext cx="4010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2"/>
            <a:stretch/>
          </p:blipFill>
          <p:spPr>
            <a:xfrm>
              <a:off x="3621600" y="6453360"/>
              <a:ext cx="4010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3"/>
            <a:stretch/>
          </p:blipFill>
          <p:spPr>
            <a:xfrm>
              <a:off x="398772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44"/>
            <a:stretch/>
          </p:blipFill>
          <p:spPr>
            <a:xfrm>
              <a:off x="435420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45"/>
            <a:stretch/>
          </p:blipFill>
          <p:spPr>
            <a:xfrm>
              <a:off x="472068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46"/>
            <a:stretch/>
          </p:blipFill>
          <p:spPr>
            <a:xfrm>
              <a:off x="508680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47"/>
            <a:stretch/>
          </p:blipFill>
          <p:spPr>
            <a:xfrm>
              <a:off x="545148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8"/>
            <a:stretch/>
          </p:blipFill>
          <p:spPr>
            <a:xfrm>
              <a:off x="581652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9"/>
            <a:stretch/>
          </p:blipFill>
          <p:spPr>
            <a:xfrm>
              <a:off x="654876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0"/>
            <a:stretch/>
          </p:blipFill>
          <p:spPr>
            <a:xfrm>
              <a:off x="6183000" y="6453360"/>
              <a:ext cx="4010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51"/>
            <a:stretch/>
          </p:blipFill>
          <p:spPr>
            <a:xfrm>
              <a:off x="691524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52"/>
            <a:stretch/>
          </p:blipFill>
          <p:spPr>
            <a:xfrm>
              <a:off x="7646760" y="6453360"/>
              <a:ext cx="4010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3"/>
            <a:stretch/>
          </p:blipFill>
          <p:spPr>
            <a:xfrm>
              <a:off x="874224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4"/>
            <a:stretch/>
          </p:blipFill>
          <p:spPr>
            <a:xfrm>
              <a:off x="8377560" y="6453360"/>
              <a:ext cx="401400" cy="40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" descr=""/>
          <p:cNvPicPr/>
          <p:nvPr/>
        </p:nvPicPr>
        <p:blipFill>
          <a:blip r:embed="rId55"/>
          <a:stretch/>
        </p:blipFill>
        <p:spPr>
          <a:xfrm>
            <a:off x="4067280" y="314172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821600" y="1268280"/>
            <a:ext cx="55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600"/>
                </a:solidFill>
                <a:latin typeface="Arial"/>
              </a:rPr>
              <a:t>感谢您的指导，孩子的进步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600"/>
                </a:solidFill>
                <a:latin typeface="Arial"/>
              </a:rPr>
              <a:t>　　　　我们共同的心愿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334120" y="45720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533520" y="1143000"/>
            <a:ext cx="4647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祝三（</a:t>
            </a: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2</a:t>
            </a: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）班的家长们</a:t>
            </a: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: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95280" y="3429000"/>
            <a:ext cx="6934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家庭幸福，心想事成！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908000" y="1052640"/>
            <a:ext cx="540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华文行楷"/>
              </a:rPr>
              <a:t>中考各科分数分布情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3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-181080" y="2924280"/>
          <a:ext cx="9217080" cy="2593800"/>
        </p:xfrm>
        <a:graphic>
          <a:graphicData uri="http://schemas.openxmlformats.org/drawingml/2006/table">
            <a:tbl>
              <a:tblPr/>
              <a:tblGrid>
                <a:gridCol w="576360"/>
                <a:gridCol w="1152360"/>
                <a:gridCol w="1152720"/>
                <a:gridCol w="1185840"/>
                <a:gridCol w="1117440"/>
                <a:gridCol w="1152720"/>
                <a:gridCol w="1152360"/>
                <a:gridCol w="576360"/>
                <a:gridCol w="1150920"/>
              </a:tblGrid>
              <a:tr h="16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科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数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英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含口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物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化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体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总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１３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１３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１３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１０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１０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１０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２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７１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针对今年升中考我们学校的措施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ff7c80"/>
                </a:solidFill>
                <a:latin typeface="Tahoma"/>
              </a:rPr>
              <a:t>有针对性地对临界进行帮扶</a:t>
            </a:r>
            <a:r>
              <a:rPr b="0" lang="zh-CN" sz="3200" spc="-1" strike="noStrike">
                <a:solidFill>
                  <a:srgbClr val="ff7c8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7c80"/>
                </a:solidFill>
                <a:latin typeface="Tahoma"/>
              </a:rPr>
              <a:t>每位课任老师都责任到家帮扶几位同学</a:t>
            </a:r>
            <a:r>
              <a:rPr b="0" lang="zh-CN" sz="3200" spc="-1" strike="noStrike">
                <a:solidFill>
                  <a:srgbClr val="ff7c80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7c80"/>
                </a:solidFill>
                <a:latin typeface="Tahoma"/>
              </a:rPr>
              <a:t>跟踪这些同学的学习和心理情况。希望能有多的同学考上区的重点中学。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利用每天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：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50—5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：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30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的时间进行个别辅导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有针对性地对尖子生进行辅导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希望能有多的同学考上石中、南海中学。六科的科任每一个星期止少有两晚下班辅导。还利用第八节进行集体辅导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双数班的同学进行了分层走班上课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希望能最大能力地对偏科的同学有一定的提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4.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根据住宿生反映早上吃早餐不够时间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现在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6:20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就可以去吃早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Tahom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为了提高学生的体育成绩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开学以来星期二和星期四的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:50—5:3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都有专职的体育老师辅导体育训练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6.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除了体育训练外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星期一、星期三、星期五的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4:50—5:30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我们六大主课的老师都坐班进行辅导，便于为走读的学生解答疑难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Tahoma"/>
              </a:rPr>
              <a:t>7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继续上一学期的星期六下午进行学习辅导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.(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其实星期六下午的辅导学校是没有收辅导费的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144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8.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做好英语口语考试的准备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每星期最少有一节口语训练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同时每晚最少有十分钟口语练习</a:t>
            </a:r>
            <a:r>
              <a:rPr b="0" lang="zh-CN" sz="3200" spc="-1" strike="noStrike">
                <a:solidFill>
                  <a:srgbClr val="ff993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096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加强了数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物理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化学的全国知识竞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各位负责的老师不辞劳苦地利用下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6:00—6:4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和晚上晚修的时间进行辅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809880"/>
            <a:ext cx="89154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组织多次模拟考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及时对学生每阶段的学习做好查漏补缺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及时补救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争取每一阶段都有进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模拟考安排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一模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四月十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十一日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二模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五一放假回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三模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6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9,3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ahoma"/>
              </a:rPr>
              <a:t>本学期我们班的情况</a:t>
            </a:r>
            <a:r>
              <a:rPr b="0" lang="zh-CN" sz="44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新的学期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大部分同学都能意识到今年学习的紧迫性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捉紧时间进行学习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特别是有些同学有了更明确的目标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自觉性大了很多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有些同学为了有更大的进步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能大胆地问老师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如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叶翠萍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梁刚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刘泽成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潘伟才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黄玉霞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杨少芳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杨杰佳等同学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600"/>
                </a:solidFill>
                <a:latin typeface="Tahoma"/>
              </a:rPr>
              <a:t>在自习课和晚修课同学们的自觉性有了很大的提高，受到学校老师的认同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ahoma"/>
              </a:rPr>
              <a:t>本学期我们班存在的问题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．有个别同学出现了中学生青春期的复杂心理，对异性产生了好感．所以出现两种情况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１）有排拖现象，有自己班内发展的，有与其他班发展的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２）有暗恋别人，把心思放在如何接近别人身上，分散了学习的心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二．学习目的不明确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１）有个别同学对自己要求过高，比如说总希望能考上石中，但学习成绩总不能达到期望，从而没有自信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２）有个别同学还没有自己的目标，还是有一种人云亦云的感觉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３）有个别同学存在反正我都考不上了，学来有什么用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0:14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14:35Z</dcterms:modified>
  <cp:revision>28</cp:revision>
  <dc:subject>主题班会课件(分28大类): http://shop62905894.taobao.com</dc:subject>
  <dc:title>主题班会课件(分28大类): http://shop62905894.taobao.com</dc:title>
</cp:coreProperties>
</file>